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907588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3E3-51C4-42EF-92D5-F4BA8740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C21-920A-45FE-AC4C-447DEF45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80294-3AD7-427E-94BE-75195DBC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527C1-A6A2-4117-8D1F-BE914E6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7727B-EFD8-48E4-A020-17963E49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C59C3-0E48-4C70-9647-DB399FD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68FEB-CBBC-4F95-8D92-D4C62E89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45073-3DB8-4A16-B784-E505B7C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BD623-B2E4-4275-A8F4-F6C659B3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1DA22-3E36-4577-B70B-2636857C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486B0-EB0D-4EAE-B5E4-1F8B9568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CC11E-23F1-41F9-A78E-D39AECA8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92D-4FC0-4B2E-81D8-2247797C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E91BA-F6CA-4A96-B19E-A36AA5A6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FD495-ACA0-4C49-94D7-AAC52C5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C4CDF-7DDB-4051-926B-C4CB2F1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E82BB-95B2-42B4-A79A-26934370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C0E5E-4C9E-45CC-8241-853BCBF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DCE3B-3FF9-4E39-BFDF-33A04DAA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FAAC-9CD1-49A2-B000-0530E6B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4D2C0-6915-4CE3-A477-6E141F65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3E141-EB5B-4A72-8464-7F409007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54F62-9F61-4385-AAC0-17D41DA0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3EB-BABC-4F35-A59D-7B41D39C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B37D8-8F37-4722-ABB8-13CB7970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44159-40D0-4835-AAF7-80F793F4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30C77-4E67-40C0-AF88-09DAE776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31B58-92D6-441F-824B-91C0F660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3606F-EFF5-46A7-B787-10D3A14F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D0417-F341-404E-9415-226C3450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E402E-FBBD-430E-B86B-0727F083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F6085-9C91-4D5B-A7E4-DDAE1397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DA24E-56BC-4FF8-9A92-29C1DC08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712D5-3B94-479F-97BC-28FD3A9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91BF-E570-45AD-A2A1-E4E6AA56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89143-6C3D-46DB-83FB-51D4F8FE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87C87-B10E-475E-8498-C9BECCA5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CB2E6-DA8C-44CB-A3E7-D2BD1B38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F388-F881-44F7-9D76-DFBEC5FA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118E-4915-49B9-8C82-3EA6287A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E91A-E02C-48CE-9F4D-57AAC2A6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62FD-E79B-4A82-8C49-8D0170FE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E259-126F-4F6A-A0EF-F3DCEF86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0AEB-4CED-42B7-AE11-E43C1782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466-5779-4873-AA40-3D5BCAE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5E0B-FEC4-4150-B03A-F6D2D943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B0CC-4095-4AC0-B1C9-E921FFDD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7CAA-7D77-487B-8DF2-63DBF192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29BC-5F15-4CFE-A74E-7F6B22C8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1BC0-4443-470B-8B9C-E3D3BF06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4611-AD20-4069-B3FA-67177E64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3BBA-278A-43FB-BF8A-38C89F6E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C016-AC19-4118-B767-CDBFB3C4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58D1-722B-4298-84FF-A7F82F6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EBB5-BAA4-4956-A9CB-3368D0DD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6F1-A60D-4EBA-A9D8-ADB79978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78B7-6A6C-474D-B8EA-378DD037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E277-5CD3-48CC-8142-4D67813A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A481-7113-4892-B43A-B239F6C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9F86-A518-40EA-B87F-5FA9606A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ACB9-DFD2-4088-A8B9-523BF34B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DB30-58E5-47BB-B45E-20037135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9179-3109-41C5-9ACC-5910E02E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06CC-61C0-4BED-8EE6-DFA21721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2468D-11D4-4FED-AB80-9F20E05C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62CA-6ACE-43B2-B718-554CFD1A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0A4-B4B4-4CF9-B96C-321C3788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BC1A-10D6-4032-86FA-4D5EB47C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37C5-EB54-4A24-BDAC-6123D4C9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9154-7FC3-4511-A5B7-D9F8A239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CEEF-7614-4A52-886D-5BEDDEA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7D25-CE6F-44EC-8D3A-224BE90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7AEE1-EC83-405D-824D-B2D6B332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8485-996E-43A8-9848-33FF74D1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73E9-6A39-49C6-91E9-7B1700A9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C938B-3B6E-4987-A91F-6711BEBC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2D68-CE2B-49D2-BAC7-1729FDC0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BB0-3018-4090-8039-0805D7E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C0A3-156A-4691-8EE7-7EA02FEA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D874-5815-4D97-B6AC-70E7533F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4077E-AFE4-4593-913E-6713DA4C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4983-AC8B-4903-87DA-78DD148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7057-5835-427F-B21A-1FC90BBF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22E47-5718-4AD0-ADB3-CBD640B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B8BC-C642-40E0-8118-2A3F838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101BA-2CEB-424B-892F-F0106D76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4C4A9-51B7-4BB7-9347-C4F3233D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A65D-4126-4478-ABD7-AF185D40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F7F-258E-4945-826C-17D81716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5FBA-21D1-41CE-8717-B48FF79B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77AC-690A-4F8E-926E-91DB668F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E084D-4215-42B7-9127-48B77A81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18BA-440E-4630-A3F7-35EE5619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D79DF-6BD3-4D5A-A3BC-3F065F1A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2A71-8DC6-43F8-97B2-A686634F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0E95-F0D9-435B-9FFB-A2F59410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0A1F7-DF82-4065-9C8D-9932BB05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02E63-5D60-42AB-94CE-1D55E67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0455-230C-4516-9CC6-C392D38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C9C-82F8-48DE-A679-4B4E3395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D6D6-31EC-4ABB-9009-A6F2F492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1D16B-0123-42B3-8850-62EA8F48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EEEF-9E4B-4F9D-BA2E-379C2F1A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181E-8A75-40EE-858E-C87FD0F2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0A37-4878-4BB3-8973-8A104122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1EB0-CCA1-4D59-90EA-87F2FF8D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4CD54-308D-4EFE-B40E-5188F6D5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6B5DD-70F0-4E28-8E0E-C9DBAA64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E62F1-E917-43DA-94B1-B9AA4168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5B857-1DAC-4111-B800-C847626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3F7-EB23-4045-8205-8A0DEB14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69EBD-922F-4546-B7D6-4C80EF3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8C52A-BD4E-45B8-BAC0-5DC2E8D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947F-330A-41C1-AC49-BBA0C9C7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B0E4-9AED-4613-B421-16C94A71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DD70A-F3BC-432B-82C2-FE05D816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743C2-AA46-4394-A7A0-212D9C29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2895A-C3C9-47C9-B714-6A85310A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AE0D1-A35C-463F-88E2-BD84BBA1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D39DF-BDC9-4BAD-A78C-DE3140E9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D68A2-0323-463E-9EF7-017798E7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EB1-722D-4B1B-8BC5-4D24B94D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46280" y="569880"/>
            <a:ext cx="84024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308B-74B2-4AA7-AC59-160C0688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6722E-5676-483A-905D-96F7D027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F7E29-59C9-428F-8969-ACE4805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D42E-6F53-4E36-8836-9AA97A90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57080" y="4273200"/>
            <a:ext cx="83916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C09AE-9CE6-4FF1-8D2B-EF298F35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57280" y="224748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570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57280" y="4273200"/>
            <a:ext cx="40950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001A2-5F9A-4A83-8868-DCF4F924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9424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31760" y="224748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5708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9424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31760" y="4273200"/>
            <a:ext cx="27018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76A95-D0BA-4582-8791-26E0A429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01C18-AD45-428F-B4C8-EA2C9F96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B6B9D-9960-44A1-A725-5B234CA6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BDDE1-7CA3-41A6-A31C-46F54008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1F68-771E-4BA3-9012-7F7A5E52B037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2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0E5-A85F-43D2-9C6C-1E6B75BC7CE4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6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BA4-00CF-44D7-8278-EEFC2E699910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249200" y="2627280"/>
            <a:ext cx="743112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E377-46FC-4A77-918A-0237DAD4CE45}" type="slidenum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91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F560-405D-4E50-A278-01A98B2282E4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269720" y="2887560"/>
            <a:ext cx="7343640" cy="916920"/>
            <a:chOff x="1269720" y="2887560"/>
            <a:chExt cx="7343640" cy="916920"/>
          </a:xfrm>
        </p:grpSpPr>
        <p:sp>
          <p:nvSpPr>
            <p:cNvPr id="140" name="TextBox 9"/>
            <p:cNvSpPr/>
            <p:nvPr/>
          </p:nvSpPr>
          <p:spPr>
            <a:xfrm>
              <a:off x="465336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269720" y="343224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5234040" y="343404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D73B-EB84-4AE1-BBD9-7567B4A3BEF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188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6391-1062-4C43-811E-EE1B4ABAB35D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236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38AD-F682-45E2-886C-19C282E4A2A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284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338-CC1A-4C91-8B89-A0BA04B13E3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269720" y="1392120"/>
            <a:ext cx="7343640" cy="916920"/>
            <a:chOff x="1269720" y="1392120"/>
            <a:chExt cx="7343640" cy="916920"/>
          </a:xfrm>
        </p:grpSpPr>
        <p:sp>
          <p:nvSpPr>
            <p:cNvPr id="332" name="TextBox 8"/>
            <p:cNvSpPr/>
            <p:nvPr/>
          </p:nvSpPr>
          <p:spPr>
            <a:xfrm>
              <a:off x="465336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269720" y="193680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5234040" y="1933920"/>
              <a:ext cx="337932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662E-A9D1-4A2B-BB22-D9D32B3D92C6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747480" y="601560"/>
            <a:ext cx="916920" cy="5481720"/>
            <a:chOff x="674748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92892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7112880" y="601560"/>
              <a:ext cx="252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71107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90600" y="61610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384360" y="61610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7192440" y="61610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EE89-1073-4519-89C3-0B38EC4C3EAA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450720" y="914400"/>
            <a:ext cx="8491680" cy="18525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485720" y="376668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. Tahir Nade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partment </a:t>
            </a:r>
            <a:r>
              <a:rPr b="0" i="1" lang="en-US" sz="4800" spc="-1" strike="noStrike">
                <a:solidFill>
                  <a:srgbClr val="ffffff"/>
                </a:solidFill>
                <a:latin typeface="Monotype Corsiva"/>
              </a:rPr>
              <a:t>o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Edu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2004-05 (The Islamia University Bahawalpur)</a:t>
            </a:r>
            <a:br>
              <a:rPr sz="4900"/>
            </a:b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  <p:graphicFrame>
        <p:nvGraphicFramePr>
          <p:cNvPr id="534" name="Object 8"/>
          <p:cNvGraphicFramePr/>
          <p:nvPr/>
        </p:nvGraphicFramePr>
        <p:xfrm>
          <a:off x="1905120" y="18302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302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alculate your learning time at departmental level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Not Quite fi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o say wrong thing at the wrong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luctant to participate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cess to Learn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How you can help students to have something to say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00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262626"/>
                </a:solidFill>
                <a:uFillTx/>
                <a:latin typeface="Book Antiqua"/>
              </a:rPr>
              <a:t>Procedure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Administrative routines, such as taking attendance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tudent movement, such as entering and leaving the room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Routines for accomplishing assignments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nteractions between teacher and student, such as how to get the teacher’s attention when help is needed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Talk among students. Such as giving help or socializing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ndividual work procedure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Management for Self Management</a:t>
            </a:r>
            <a:r>
              <a:rPr b="0" lang="en-US" sz="4900" spc="-1" strike="noStrike">
                <a:solidFill>
                  <a:srgbClr val="895d1d"/>
                </a:solidFill>
                <a:latin typeface="Book Antiqua"/>
              </a:rPr>
              <a:t> 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dmission &amp; Examination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assroom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ttendance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articipation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resentations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Behavior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minar rul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895d1d"/>
                </a:solidFill>
                <a:uFillTx/>
                <a:latin typeface="Book Antiqua"/>
              </a:rPr>
              <a:t>Rules</a:t>
            </a:r>
            <a:br>
              <a:rPr sz="4900"/>
            </a:b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Explanation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Expression of disappointment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Loss of privileges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Incentives to other students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Written reflection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Fine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Detention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Visit to Incharge Office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272880">
              <a:lnSpc>
                <a:spcPct val="80000"/>
              </a:lnSpc>
              <a:spcBef>
                <a:spcPts val="7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Contact with Parents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95d1d"/>
                </a:solidFill>
                <a:uFillTx/>
                <a:latin typeface="Book Antiqua"/>
              </a:rPr>
              <a:t>Punishment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0000">
              <a:lnSpc>
                <a:spcPct val="70000"/>
              </a:lnSpc>
              <a:spcBef>
                <a:spcPts val="55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Make sure rules are workable and not too complicated</a:t>
            </a: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Establish rules that clearly specify requirements 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Offer rewards that makes more positive efforts 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Delay the discussion of the situation until you and the students involved, are calmer and more objective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mpose penalties privately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After imposing a penalty, reestablish a positive relationship with the students immediately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1080" indent="-270000">
              <a:lnSpc>
                <a:spcPct val="7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et up graded list of penalties that will fit many occasions.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Dealing with Discipline Problems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533160" y="3352680"/>
            <a:ext cx="8915400" cy="27734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HANK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echniques used to maintain a healthy learning environment, relatively free of behavior problem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Classroom Managemen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asons for getting enrol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otivation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Intellectual abilit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Reactions to the personality of the teache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nse of confidence and independenc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hysical and emotional health condition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5d1d"/>
                </a:solidFill>
                <a:latin typeface="Book Antiqua"/>
              </a:rPr>
              <a:t>An effective teacher knows well about the learners. Different kinds of information necessary for the teacher are:</a:t>
            </a:r>
            <a:endParaRPr b="0" lang="en-US" sz="2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How you can describe your students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Classrooms are multidimensional : Different goals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references abilities , Task People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Time pressure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Simultaneity: Exampling , Discipline, Question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Immediacy: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ace of Classroom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Unpredictable: No Light, Computer problem,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rojector problem, Absent student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Public: 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andling problem before people,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istories: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The need for organization</a:t>
            </a: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What type of difficulty is more common in your Department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Activity: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aim of classroom management is to maintain a positive, productive learning environment. There are at least three reasons, why management is important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ore Time for Learn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ccess to Learning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609480" indent="-609480">
              <a:spcBef>
                <a:spcPts val="601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anagement for Self Managemen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895d1d"/>
                </a:solidFill>
                <a:latin typeface="Book Antiqua"/>
              </a:rPr>
              <a:t>The Goals of Classroom Management</a:t>
            </a:r>
            <a:endParaRPr b="0" lang="en-US" sz="49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757080" y="2247480"/>
            <a:ext cx="8391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llocated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Engaged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ime on task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cademic learning tim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46280" y="569880"/>
            <a:ext cx="840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More Time for Learn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7440" y="-2286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5d1d"/>
                </a:solidFill>
                <a:latin typeface="Book Antiqua"/>
              </a:rPr>
              <a:t>1993 (Mignano)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394000" y="1523520"/>
            <a:ext cx="610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ime Managemen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4118040" y="685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15"/>
          <p:cNvGraphicFramePr/>
          <p:nvPr/>
        </p:nvGraphicFramePr>
        <p:xfrm>
          <a:off x="2478240" y="2286000"/>
          <a:ext cx="581652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2286000"/>
                    <a:ext cx="58165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2:30:47Z</dcterms:created>
  <dc:creator>Tahir</dc:creator>
  <dc:description/>
  <dc:language>en-US</dc:language>
  <cp:lastModifiedBy>SaaD</cp:lastModifiedBy>
  <dcterms:modified xsi:type="dcterms:W3CDTF">2019-12-18T03:56:18Z</dcterms:modified>
  <cp:revision>9</cp:revision>
  <dc:subject/>
  <dc:title>Classroom Management</dc:title>
</cp:coreProperties>
</file>